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6786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dt" idx="37"/>
          </p:nvPr>
        </p:nvSpPr>
        <p:spPr>
          <a:xfrm>
            <a:off x="384300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sldImg"/>
          </p:nvPr>
        </p:nvSpPr>
        <p:spPr>
          <a:xfrm>
            <a:off x="915480" y="742680"/>
            <a:ext cx="495324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ftr" idx="38"/>
          </p:nvPr>
        </p:nvSpPr>
        <p:spPr>
          <a:xfrm>
            <a:off x="-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 type="sldNum" idx="39"/>
          </p:nvPr>
        </p:nvSpPr>
        <p:spPr>
          <a:xfrm>
            <a:off x="384300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9CD9-A904-41BA-920E-75B7E2B1A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Calibri"/>
                <a:ea typeface="Times New Roman"/>
              </a:rPr>
              <a:t>Cílové skupiny v PO2: </a:t>
            </a:r>
            <a:r>
              <a:rPr b="0" lang="cs-CZ" sz="1200" spc="-1" strike="noStrike">
                <a:solidFill>
                  <a:srgbClr val="14407e"/>
                </a:solidFill>
                <a:latin typeface="Calibri"/>
                <a:ea typeface="Times New Roman"/>
              </a:rPr>
              <a:t>zejména osoby sociálně vyloučené a osoby ohrožené sociálním vyloučením, znevýhodněné skupiny obyvatel, osoby žijící v sociálně vyloučených lokalitách, etnické menšiny a osoby z jiného socio-kulturního prostředí, imigranti, osoby bez přístřeší, poskytovatelé a zadavatelé sociálních a zdravotních služeb, místní samosprávy, at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6519-1742-4E4F-AF6A-B41068347099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1F5B-2FC4-4C90-92C6-843A8B7348A2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Calibri"/>
                <a:ea typeface="Times New Roman"/>
              </a:rPr>
              <a:t>Cílové skupiny v PO3</a:t>
            </a:r>
            <a:r>
              <a:rPr b="0" lang="cs-CZ" sz="1200" spc="-1" strike="noStrike">
                <a:solidFill>
                  <a:srgbClr val="14407e"/>
                </a:solidFill>
                <a:latin typeface="Calibri"/>
                <a:ea typeface="Times New Roman"/>
              </a:rPr>
              <a:t>: zejména uchazeči a zájemci o zaměstnání, neaktivní osoby, osoby sociálně vyloučené nebo ohrožené sociálním vyloučením a chudobou, zaměstnavatelé a zaměstnanci, sociální pracovníci poskytovatelů služeb, zaměstnanci NNO a sociálních podniků at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09D4-34D0-434D-968B-5060F17ACDE2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7916-3E56-4289-8322-6DD52895143C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Calibri"/>
                <a:ea typeface="Times New Roman"/>
              </a:rPr>
              <a:t>Cílové skupiny v PO4: </a:t>
            </a:r>
            <a:r>
              <a:rPr b="0" lang="cs-CZ" sz="1200" spc="-1" strike="noStrike">
                <a:solidFill>
                  <a:srgbClr val="14407e"/>
                </a:solidFill>
                <a:latin typeface="Calibri"/>
                <a:ea typeface="Times New Roman"/>
              </a:rPr>
              <a:t>zejména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rganizační složky státu včetně justice, státní příspěvkové organizace, obce a kraje, zaměstnanci těchto institucí, veřejn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0E4D-98A6-48AA-B6CA-964AA4C0290C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C757-924B-45DB-85B3-7713EB173FAC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ACD6-528F-4692-933A-AA969286484B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1F06-8D2C-43F3-A59C-F0302FB5DAAF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2E6F-49B2-4C9F-A230-120D7C918CC2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77EE-A36E-4A86-9EC9-E056785CFE2D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2E81-205A-4BC3-8581-87974002C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0CF0-4F6D-4BF1-B9E6-0474ED6E1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569B-4463-4F65-87EE-CD9AB9DF76B3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Calibri"/>
                <a:ea typeface="Times New Roman"/>
              </a:rPr>
              <a:t>Cílové skupiny v PO1: </a:t>
            </a:r>
            <a:r>
              <a:rPr b="0" lang="cs-CZ" sz="1200" spc="-1" strike="noStrike">
                <a:solidFill>
                  <a:srgbClr val="14407e"/>
                </a:solidFill>
                <a:latin typeface="Calibri"/>
                <a:ea typeface="Times New Roman"/>
              </a:rPr>
              <a:t>zejména uchazeči a zájemci o zaměstnání, neaktivní osoby, ženy ohrožené na trhu práce, zaměstnanci a zaměstnavatelé, instituce trhu práce a jejich zaměstnanci, nezaměstnaní a neaktivní lidé mladší 30 let věku v Ústeckém a Karlovarském kraj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Zástupný symbol pro číslo snímk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6E21-72A7-4F1B-9DDE-EC49C78C396C}" type="slidenum">
              <a:rPr b="0" lang="cs-CZ" sz="1200" spc="-1" strike="noStrike">
                <a:solidFill>
                  <a:srgbClr val="084a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7813-7C00-4D55-9274-BD7DC6D2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9FAC-43BF-4433-B257-2CB0B329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6EF64-2905-480D-875C-32C6420D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90169-7DED-422C-BFAE-6A9EF9E1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40932-F048-4A6F-AD6B-1FB4E80B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18437-7D9E-4D27-9814-A9A255B1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927F9-4BF9-4F0B-834C-AF7B11D8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4008D-21EF-4F41-B80E-01FB9FD6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5C6A5-8AB7-4DF5-8EF9-CD0734B3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DF973-F950-4FBC-9952-EE2CD263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0B657-A89D-419B-9FA5-A4EF4735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E37-EB5C-48FD-A48F-B5EEC2E8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9CF-B946-4F53-BB52-43EB57F8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2FED8-CB6A-4F7C-AA39-0D10258B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08064-5FBC-45EF-9FEE-3CC46CFA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C8141-38D2-4C0A-92AB-C014DE8B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96E3C-1CC2-4F08-8FFB-52D69752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DB890-5C12-4EF2-9031-F42E642F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DFC44-B250-4144-AF4A-03CBC1B0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556E1-D620-462B-9F51-2D03A58D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F6F14-379B-4449-8881-739EF45B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583A0-265E-484F-88E7-3FFF2BAC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B62B-8711-46CA-80D9-0C93E74E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0A1A7-9EDA-475B-BDA9-7EDDDE25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AC962-CC74-416E-B947-380C7951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ED346-9624-4B2D-9F99-13CF1E6F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4E475-A5BC-474E-A4F5-7161BF61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8804C-62C4-49B7-892D-0AEE1593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91454-03A0-493D-A72A-4F6DF03B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534F7-654D-46BE-B7DC-1B636297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1DB41-EB20-4212-92FB-83EF68E3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6F538-6F09-4860-9926-E96C2CC9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11497-D533-43B1-BCA7-CA06A3C9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B7DB-8E93-4316-B516-3EFEB95B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FC45F-61C8-4A35-B168-1B45D069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974AF-EE28-4F2C-B829-29093AFF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5D23E-7C32-4ECF-A238-BFFD0F3B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0E774-432D-435C-9222-642DC21E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917F0-E524-40A7-AEBD-0D414798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06B4D-37FB-440F-B68A-085458B9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BF358-6FB2-4A73-B266-C670FE66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7C313-10C4-439E-977B-C7A790DE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EA36B-D686-4709-94D4-B492493A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AC755-D5C5-4E6C-92AA-4795F79F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6C02-332A-4D4C-A816-BC756548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A3D5C-A76A-46AA-98C6-D2B9FF66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D9B5D-1C5E-47BD-9AF1-E2A6C77E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5847E-0F7C-4BEC-9304-6C37BA89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4C175-C838-4FFD-BF7B-EF1CFD55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9D87F-2BA5-4B19-A954-1E55D008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0FD55-D537-444B-9E0C-0DA283D6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EF8BA-5950-457F-A14F-04404402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91D0D-43D6-4DD3-8065-E777617D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7F707-96D4-4253-96E4-39D5A8F6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A720E-41FC-44FB-AE89-8B2FA7A0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B85A-4604-4ABB-82C8-97285F34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62FB0-A634-406F-B53D-68090B89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ABDED-B902-4094-B287-E9FBE86B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51340-50DB-4128-BF59-9292D3A1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D9F0A-C797-4210-88EF-9C1E9D22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AEC2E-7C61-4F22-9F0E-060BAE6B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DAEBE-3F90-4A0B-A9B2-F9D7C413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2C5A7-D7FD-44D6-9C21-3C733702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76ADE-BFC7-4E46-A9D0-D4A0EBC5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C9939-8582-465E-89DD-0819C64C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EEF0-08D6-4422-A5FE-B19E6ABC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0150-5F57-41C7-AE2A-097DBDA1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02E9-EF2C-47CC-A23B-15CC4C63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B00-B030-4261-9CCF-F66B7A61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F58F-D800-4C05-B0FD-43104698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F039-9EEE-44C3-B32C-8A64BE17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EEDA-1640-4BF8-B10E-86F02BFB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1AD7-9B46-4CA7-B701-E69C5240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1CD3-1D9F-4D38-BA2F-EDCFD547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CD784-6940-41D2-BD6E-18C29330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752DB-CEC9-43B2-871C-E6AE28BE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B6880-3536-4A44-AEF1-117EF3B2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A96A4-7876-4F7D-901E-E3E70FA2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6D5B0-CDDC-40D7-AAA5-0297BE5C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3998-43C0-47B9-BE48-3591B3E6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5272F-51B1-4CD0-B114-59C94C3D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8EF41-D8D7-4937-B1EC-4DF1A7A2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145F8-AD45-45BF-BF8D-C7C99D16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DF6D5-408D-4B67-86D8-3B1A82F9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5ECEE-BB49-4DD3-A821-58A1329C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18095-55F5-48A7-8143-7FFA01D9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916BE-5E4B-4364-9A53-41B1E3F3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616E-B459-455E-BF0C-93F4CA27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26BFE-DDEF-4497-9B6F-A7FCFBE2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70E4-DA53-4A06-87FC-EE6424AA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A4DCB-BDAC-4D66-AE7D-9FE6EAC1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E6232-A0F8-4484-9E1C-847EF96B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2FEEA-B569-49FE-A370-39ADEAC7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84C97-6D71-4800-B21D-8B8315EB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58696-7360-4278-B2BD-C582F1BE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D70D0-E925-449B-A3F3-05A6B0D4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4A3F3-A184-4934-B136-6EF26033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89142-19EB-4631-800E-13279952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8214C-9D8D-4F80-85C8-A03B221D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1D51D-CD0E-4485-8CFF-C1000DED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ABF8-7C15-438C-BBDF-0CB05B11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00E87-E83F-4BAE-B106-5F228120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F72B1-E1D8-49E2-8DBF-7FF5B2AD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CD73C-14B9-41F1-98AE-51A3C58B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0777A-6735-414A-B847-8B934A02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478CE-961D-4AAB-98F0-9CA9A9FE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58932-1D79-43FC-A04A-E00F4B80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15FC0-9FD5-4A14-9041-7C35A459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5B4D7-D5A4-40A2-8513-4A1054DC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F581B-DB91-4CA0-BB6A-8362515A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E247E-098C-4428-961D-44EE8B02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BF4-A104-4C5D-97C1-B5708AFD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1A234-8124-4449-A2BC-3160DBB1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4022E-1F4C-41A8-8FB7-FE0547BE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7D0CB-2D33-4502-8F74-D262E8F2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9888D-688A-4046-A7D7-F1280BDE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0AFE0-6634-43E9-B361-BFE792C6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E3DD5-41EE-48B1-B745-B5CE80DE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66AAA-C9BC-495C-8801-F0D30B59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67ACC-AB67-4091-B3B5-AD02E9E7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36E62-BDB0-49D4-99B1-C105D048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0CE56-60DF-44BD-82AD-FB94234C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49D0-9293-4F10-94BE-C39A5970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3A738-BAB8-4AF8-B6BF-8AFFB9A0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AC900-08FA-45E5-8C7A-CAC7ACBF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578FE-1E31-458B-A111-8334D934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A26A9-8D51-42A4-A83C-778A59FB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2BB84-97A1-43FC-B334-D4BE2F31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9CD46-9DE4-499A-98D3-73CDB033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F228E-9DB7-4014-B615-0E0040CA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F79A6-E2A3-4AC4-AB72-1A255279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4D56B-DBC9-4C81-833F-44D41EF0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EC1B7-1285-4CED-BABD-10A16EB0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B04B-3913-4649-8BAA-488133D5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42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3E64A-1E5B-4E2D-A7A4-EB0C9498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469A4-16D5-4F27-AE0C-8A9ECA4A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0F074-5B7D-4F5E-9654-7A983438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7214D-F199-4241-AA16-44ABAC4A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9640" y="4056840"/>
            <a:ext cx="80647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D95D6-32DF-45B9-8C8E-1D25B710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2440" y="180036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396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2440" y="4056840"/>
            <a:ext cx="39355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1E41D-D60B-4B41-9632-B99C6B8B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6664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93280" y="180036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39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6664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93280" y="4056840"/>
            <a:ext cx="25966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81FC5-C552-42AF-9304-C5623488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3C656-9B0A-4A9D-98E8-5973C9DC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DF31D-106F-4C3E-906B-63515089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7F178-3059-46C7-8066-68D53B9A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DA85-40E2-4CE7-A2BB-B474423D9E2C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06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07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08" name="Obdélník 9"/>
          <p:cNvSpPr/>
          <p:nvPr/>
        </p:nvSpPr>
        <p:spPr>
          <a:xfrm>
            <a:off x="0" y="0"/>
            <a:ext cx="9144000" cy="673272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09" name="Obdélník 10"/>
          <p:cNvSpPr/>
          <p:nvPr/>
        </p:nvSpPr>
        <p:spPr>
          <a:xfrm>
            <a:off x="0" y="0"/>
            <a:ext cx="9144000" cy="13352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410" name="Obrázek 11" descr=""/>
          <p:cNvPicPr/>
          <p:nvPr/>
        </p:nvPicPr>
        <p:blipFill>
          <a:blip r:embed="rId2"/>
          <a:stretch/>
        </p:blipFill>
        <p:spPr>
          <a:xfrm>
            <a:off x="395280" y="201600"/>
            <a:ext cx="3952800" cy="793800"/>
          </a:xfrm>
          <a:prstGeom prst="rect">
            <a:avLst/>
          </a:prstGeom>
          <a:ln w="0">
            <a:noFill/>
          </a:ln>
        </p:spPr>
      </p:pic>
      <p:sp>
        <p:nvSpPr>
          <p:cNvPr id="411" name="Přímá spojnice 12"/>
          <p:cNvSpPr/>
          <p:nvPr/>
        </p:nvSpPr>
        <p:spPr>
          <a:xfrm>
            <a:off x="395280" y="1138320"/>
            <a:ext cx="8353440" cy="0"/>
          </a:xfrm>
          <a:prstGeom prst="line">
            <a:avLst/>
          </a:prstGeom>
          <a:ln w="12600">
            <a:solidFill>
              <a:srgbClr val="5fbb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51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52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5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6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27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84a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4DCE-90EB-4556-9AAA-C2EA4FF0F4F5}" type="slidenum">
              <a:rPr b="1" lang="cs-CZ" sz="1000" spc="-1" strike="noStrike">
                <a:solidFill>
                  <a:srgbClr val="084a8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95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96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8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9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0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84a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1BC6-2EFA-475A-8106-AF8D6586A1DA}" type="slidenum">
              <a:rPr b="1" lang="cs-CZ" sz="1000" spc="-1" strike="noStrike">
                <a:solidFill>
                  <a:srgbClr val="084a8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39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40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1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2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3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84a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426B-8A8D-4327-89C1-D514805C9F92}" type="slidenum">
              <a:rPr b="1" lang="cs-CZ" sz="1000" spc="-1" strike="noStrike">
                <a:solidFill>
                  <a:srgbClr val="084a8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83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84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34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35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36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84a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5A12-A21E-43D8-8106-B79FE15D8E81}" type="slidenum">
              <a:rPr b="1" lang="cs-CZ" sz="1000" spc="-1" strike="noStrike">
                <a:solidFill>
                  <a:srgbClr val="084a8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5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84a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84CA-672A-4982-B05E-C35C2AFB4FD0}" type="slidenum">
              <a:rPr b="1" lang="cs-CZ" sz="1000" spc="-1" strike="noStrike">
                <a:solidFill>
                  <a:srgbClr val="084a8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89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0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1" name="Obdélní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2" name="Obdélník 10"/>
          <p:cNvSpPr/>
          <p:nvPr/>
        </p:nvSpPr>
        <p:spPr>
          <a:xfrm>
            <a:off x="0" y="0"/>
            <a:ext cx="9144000" cy="13352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93" name="Obrázek 11" descr=""/>
          <p:cNvPicPr/>
          <p:nvPr/>
        </p:nvPicPr>
        <p:blipFill>
          <a:blip r:embed="rId2"/>
          <a:stretch/>
        </p:blipFill>
        <p:spPr>
          <a:xfrm>
            <a:off x="395280" y="201600"/>
            <a:ext cx="3952800" cy="793800"/>
          </a:xfrm>
          <a:prstGeom prst="rect">
            <a:avLst/>
          </a:prstGeom>
          <a:ln w="0">
            <a:noFill/>
          </a:ln>
        </p:spPr>
      </p:pic>
      <p:sp>
        <p:nvSpPr>
          <p:cNvPr id="94" name="Přímá spojnice 12"/>
          <p:cNvSpPr/>
          <p:nvPr/>
        </p:nvSpPr>
        <p:spPr>
          <a:xfrm>
            <a:off x="395280" y="1138320"/>
            <a:ext cx="8353440" cy="0"/>
          </a:xfrm>
          <a:prstGeom prst="line">
            <a:avLst/>
          </a:prstGeom>
          <a:ln w="12600">
            <a:solidFill>
              <a:srgbClr val="5fbb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7B2E-85C9-487B-868A-356E5BC0BFE6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37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38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39" name="Obdélník 9"/>
          <p:cNvSpPr/>
          <p:nvPr/>
        </p:nvSpPr>
        <p:spPr>
          <a:xfrm>
            <a:off x="0" y="0"/>
            <a:ext cx="9144000" cy="673272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40" name="Obdélník 10"/>
          <p:cNvSpPr/>
          <p:nvPr/>
        </p:nvSpPr>
        <p:spPr>
          <a:xfrm>
            <a:off x="0" y="0"/>
            <a:ext cx="9144000" cy="13352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141" name="Obrázek 11" descr=""/>
          <p:cNvPicPr/>
          <p:nvPr/>
        </p:nvPicPr>
        <p:blipFill>
          <a:blip r:embed="rId2"/>
          <a:stretch/>
        </p:blipFill>
        <p:spPr>
          <a:xfrm>
            <a:off x="395280" y="201600"/>
            <a:ext cx="3952800" cy="793800"/>
          </a:xfrm>
          <a:prstGeom prst="rect">
            <a:avLst/>
          </a:prstGeom>
          <a:ln w="0">
            <a:noFill/>
          </a:ln>
        </p:spPr>
      </p:pic>
      <p:sp>
        <p:nvSpPr>
          <p:cNvPr id="142" name="Přímá spojnice 12"/>
          <p:cNvSpPr/>
          <p:nvPr/>
        </p:nvSpPr>
        <p:spPr>
          <a:xfrm>
            <a:off x="395280" y="1138320"/>
            <a:ext cx="8353440" cy="0"/>
          </a:xfrm>
          <a:prstGeom prst="line">
            <a:avLst/>
          </a:prstGeom>
          <a:ln w="12600">
            <a:solidFill>
              <a:srgbClr val="5fbb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82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83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84" name="Obdélní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85" name="Obdélník 10"/>
          <p:cNvSpPr/>
          <p:nvPr/>
        </p:nvSpPr>
        <p:spPr>
          <a:xfrm>
            <a:off x="0" y="0"/>
            <a:ext cx="9144000" cy="13352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186" name="Obrázek 11" descr=""/>
          <p:cNvPicPr/>
          <p:nvPr/>
        </p:nvPicPr>
        <p:blipFill>
          <a:blip r:embed="rId2"/>
          <a:stretch/>
        </p:blipFill>
        <p:spPr>
          <a:xfrm>
            <a:off x="395280" y="201600"/>
            <a:ext cx="3952800" cy="793800"/>
          </a:xfrm>
          <a:prstGeom prst="rect">
            <a:avLst/>
          </a:prstGeom>
          <a:ln w="0">
            <a:noFill/>
          </a:ln>
        </p:spPr>
      </p:pic>
      <p:sp>
        <p:nvSpPr>
          <p:cNvPr id="187" name="Přímá spojnice 12"/>
          <p:cNvSpPr/>
          <p:nvPr/>
        </p:nvSpPr>
        <p:spPr>
          <a:xfrm>
            <a:off x="395280" y="1138320"/>
            <a:ext cx="8353440" cy="0"/>
          </a:xfrm>
          <a:prstGeom prst="line">
            <a:avLst/>
          </a:prstGeom>
          <a:ln w="12600">
            <a:solidFill>
              <a:srgbClr val="5fbb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84a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C701-2A12-4B75-9D67-509C6ABEA29C}" type="slidenum">
              <a:rPr b="1" lang="cs-CZ" sz="1000" spc="-1" strike="noStrike">
                <a:solidFill>
                  <a:srgbClr val="084a8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30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31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84a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FAB5-2BA8-4B3B-8015-EFFE08D30884}" type="slidenum">
              <a:rPr b="1" lang="cs-CZ" sz="1000" spc="-1" strike="noStrike">
                <a:solidFill>
                  <a:srgbClr val="084a8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74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75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84a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B4FA-0EDD-4B68-B521-B87BA5688439}" type="slidenum">
              <a:rPr b="1" lang="cs-CZ" sz="1000" spc="-1" strike="noStrike">
                <a:solidFill>
                  <a:srgbClr val="084a8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18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19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84a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5E46-3F31-4AA2-B41D-BAC32C195340}" type="slidenum">
              <a:rPr b="1" lang="cs-CZ" sz="1000" spc="-1" strike="noStrike">
                <a:solidFill>
                  <a:srgbClr val="084a8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Obdélník 14"/>
          <p:cNvSpPr/>
          <p:nvPr/>
        </p:nvSpPr>
        <p:spPr>
          <a:xfrm>
            <a:off x="0" y="1079640"/>
            <a:ext cx="9144000" cy="12672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62" name="Obdélník 6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084a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63" name="Obdélník 17"/>
          <p:cNvSpPr/>
          <p:nvPr/>
        </p:nvSpPr>
        <p:spPr>
          <a:xfrm>
            <a:off x="0" y="6732720"/>
            <a:ext cx="9144000" cy="125280"/>
          </a:xfrm>
          <a:prstGeom prst="rect">
            <a:avLst/>
          </a:prstGeom>
          <a:solidFill>
            <a:srgbClr val="afd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ddf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2" marL="91764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3" marL="117000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4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5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6" marL="1420920" indent="-25092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084a8b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a8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539640" y="6516720"/>
            <a:ext cx="1116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1692360" y="6516720"/>
            <a:ext cx="6912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864036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84a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2654-B550-4486-BD18-A19F476C0088}" type="slidenum">
              <a:rPr b="1" lang="cs-CZ" sz="1000" spc="-1" strike="noStrike">
                <a:solidFill>
                  <a:srgbClr val="084a8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lenka.kaucka@mpsv.cz" TargetMode="External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835280" y="2997000"/>
            <a:ext cx="6913440" cy="2160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84a8b"/>
                </a:solidFill>
                <a:latin typeface="Arial"/>
              </a:rPr>
              <a:t>OPERAČNÍ PROGRAM ZAMĚSTNANOST </a:t>
            </a:r>
            <a:br>
              <a:rPr sz="4000"/>
            </a:br>
            <a:r>
              <a:rPr b="1" lang="pl-PL" sz="4000" spc="-1" strike="noStrike">
                <a:solidFill>
                  <a:srgbClr val="084a8b"/>
                </a:solidFill>
                <a:latin typeface="Arial"/>
              </a:rPr>
              <a:t>(2014-2020)</a:t>
            </a:r>
            <a:endParaRPr b="1" lang="en-US" sz="40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03000" y="4016160"/>
            <a:ext cx="7272360" cy="150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1332000" y="3715920"/>
            <a:ext cx="7270560" cy="53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636" name="Picture 3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1930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PO2 SOCIÁLNÍ ZAČLEŇOVÁNÍ </a:t>
            </a:r>
            <a:br>
              <a:rPr sz="3200"/>
            </a:b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A BOJ S CHUDOBOU 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pic>
        <p:nvPicPr>
          <p:cNvPr id="667" name="Zástupný symbol pro obsah 4" descr=""/>
          <p:cNvPicPr/>
          <p:nvPr/>
        </p:nvPicPr>
        <p:blipFill>
          <a:blip r:embed="rId1"/>
          <a:stretch/>
        </p:blipFill>
        <p:spPr>
          <a:xfrm>
            <a:off x="231840" y="1335240"/>
            <a:ext cx="8710560" cy="5194080"/>
          </a:xfrm>
          <a:prstGeom prst="rect">
            <a:avLst/>
          </a:prstGeom>
          <a:ln w="0">
            <a:noFill/>
          </a:ln>
        </p:spPr>
      </p:pic>
      <p:sp>
        <p:nvSpPr>
          <p:cNvPr id="668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CEA2-A940-4DE5-A29F-9A71CE89833D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fddfa"/>
                </a:solidFill>
                <a:latin typeface="Arial"/>
                <a:ea typeface="Arial"/>
              </a:rPr>
              <a:t>SOCIÁLNÍ PODNIKÁNÍ </a:t>
            </a:r>
            <a:endParaRPr b="1" lang="en-US" sz="2800" spc="-1" strike="noStrike">
              <a:solidFill>
                <a:srgbClr val="afddfa"/>
              </a:solidFill>
              <a:latin typeface="Arial"/>
            </a:endParaRPr>
          </a:p>
        </p:txBody>
      </p:sp>
      <p:pic>
        <p:nvPicPr>
          <p:cNvPr id="670" name="Zástupný symbol pro obsah 12" descr=""/>
          <p:cNvPicPr/>
          <p:nvPr/>
        </p:nvPicPr>
        <p:blipFill>
          <a:blip r:embed="rId1"/>
          <a:stretch/>
        </p:blipFill>
        <p:spPr>
          <a:xfrm>
            <a:off x="304920" y="1195560"/>
            <a:ext cx="8534160" cy="5491080"/>
          </a:xfrm>
          <a:prstGeom prst="rect">
            <a:avLst/>
          </a:prstGeom>
          <a:ln w="0">
            <a:noFill/>
          </a:ln>
        </p:spPr>
      </p:pic>
      <p:sp>
        <p:nvSpPr>
          <p:cNvPr id="671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A436-E0ED-4091-A6C5-90D6B7B3295D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672" name="Picture 2" descr=""/>
          <p:cNvPicPr/>
          <p:nvPr/>
        </p:nvPicPr>
        <p:blipFill>
          <a:blip r:embed="rId2"/>
          <a:stretch/>
        </p:blipFill>
        <p:spPr>
          <a:xfrm>
            <a:off x="6012000" y="1341360"/>
            <a:ext cx="792000" cy="782640"/>
          </a:xfrm>
          <a:prstGeom prst="rect">
            <a:avLst/>
          </a:prstGeom>
          <a:ln w="0">
            <a:noFill/>
          </a:ln>
        </p:spPr>
      </p:pic>
      <p:pic>
        <p:nvPicPr>
          <p:cNvPr id="673" name="Obrázek 6" descr=""/>
          <p:cNvPicPr/>
          <p:nvPr/>
        </p:nvPicPr>
        <p:blipFill>
          <a:blip r:embed="rId3"/>
          <a:stretch/>
        </p:blipFill>
        <p:spPr>
          <a:xfrm>
            <a:off x="1187280" y="2894040"/>
            <a:ext cx="122724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PO3 SOCIÁLNÍ INOVACE </a:t>
            </a:r>
            <a:br>
              <a:rPr sz="3200"/>
            </a:b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A MEZINÁRODNÍ SPOLUPRÁCE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pic>
        <p:nvPicPr>
          <p:cNvPr id="675" name="Zástupný symbol pro obsah 4" descr=""/>
          <p:cNvPicPr/>
          <p:nvPr/>
        </p:nvPicPr>
        <p:blipFill>
          <a:blip r:embed="rId1"/>
          <a:stretch/>
        </p:blipFill>
        <p:spPr>
          <a:xfrm>
            <a:off x="603360" y="1335240"/>
            <a:ext cx="8076960" cy="5052960"/>
          </a:xfrm>
          <a:prstGeom prst="rect">
            <a:avLst/>
          </a:prstGeom>
          <a:ln w="0">
            <a:noFill/>
          </a:ln>
        </p:spPr>
      </p:pic>
      <p:sp>
        <p:nvSpPr>
          <p:cNvPr id="676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A97E-5B27-488D-9A38-CA81BFC1D3A8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afddfa"/>
                </a:solidFill>
                <a:latin typeface="Arial"/>
              </a:rPr>
              <a:t>PO3 SOCIÁLNÍ INOVACE </a:t>
            </a:r>
            <a:br>
              <a:rPr sz="2000"/>
            </a:br>
            <a:r>
              <a:rPr b="1" lang="cs-CZ" sz="2000" spc="-1" strike="noStrike">
                <a:solidFill>
                  <a:srgbClr val="afddfa"/>
                </a:solidFill>
                <a:latin typeface="Arial"/>
              </a:rPr>
              <a:t>A MEZINÁRODNÍ SPOLUPRÁCE</a:t>
            </a:r>
            <a:endParaRPr b="1" lang="en-US" sz="20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78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E7DF-D7E2-416D-ADED-CDC34F6A6E2B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79" name="Zaoblený obdélník 7"/>
          <p:cNvSpPr/>
          <p:nvPr/>
        </p:nvSpPr>
        <p:spPr>
          <a:xfrm>
            <a:off x="250920" y="1268280"/>
            <a:ext cx="2952720" cy="719280"/>
          </a:xfrm>
          <a:prstGeom prst="roundRect">
            <a:avLst>
              <a:gd name="adj" fmla="val 16667"/>
            </a:avLst>
          </a:prstGeom>
          <a:solidFill>
            <a:srgbClr val="084a8b"/>
          </a:solidFill>
          <a:ln w="25560">
            <a:solidFill>
              <a:srgbClr val="043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5f5f5"/>
                </a:solidFill>
                <a:latin typeface="Arial"/>
              </a:rPr>
              <a:t>Termín vyhlášení výzvy: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5f5f5"/>
                </a:solidFill>
                <a:latin typeface="Arial"/>
              </a:rPr>
              <a:t>srpen 2015 – žadatelé ÚOS,OSS,PO kraje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680" name="Diagram 6" descr=""/>
          <p:cNvPicPr/>
          <p:nvPr/>
        </p:nvPicPr>
        <p:blipFill>
          <a:blip r:embed="rId1"/>
          <a:stretch/>
        </p:blipFill>
        <p:spPr>
          <a:xfrm>
            <a:off x="450720" y="2341440"/>
            <a:ext cx="83152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PO4 EFEKTIVNÍ VEŘEJNÁ SPRÁVA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pic>
        <p:nvPicPr>
          <p:cNvPr id="682" name="Zástupný symbol pro obsah 2" descr=""/>
          <p:cNvPicPr/>
          <p:nvPr/>
        </p:nvPicPr>
        <p:blipFill>
          <a:blip r:embed="rId1"/>
          <a:stretch/>
        </p:blipFill>
        <p:spPr>
          <a:xfrm>
            <a:off x="536400" y="1322280"/>
            <a:ext cx="8071200" cy="5065920"/>
          </a:xfrm>
          <a:prstGeom prst="rect">
            <a:avLst/>
          </a:prstGeom>
          <a:ln w="0">
            <a:noFill/>
          </a:ln>
        </p:spPr>
      </p:pic>
      <p:sp>
        <p:nvSpPr>
          <p:cNvPr id="683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FAA3-0AE4-419D-82F3-1DEBC9D6B973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afddfa"/>
                </a:solidFill>
                <a:latin typeface="Arial"/>
              </a:rPr>
              <a:t>PO4 EFEKTIVNÍ VEŘEJNÁ SPRÁVA</a:t>
            </a:r>
            <a:endParaRPr b="1" lang="en-US" sz="20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85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593F-1349-4403-9164-CCC5F62880E7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86" name="Zaoblený obdélník 7"/>
          <p:cNvSpPr/>
          <p:nvPr/>
        </p:nvSpPr>
        <p:spPr>
          <a:xfrm>
            <a:off x="250920" y="1268280"/>
            <a:ext cx="2952720" cy="719280"/>
          </a:xfrm>
          <a:prstGeom prst="roundRect">
            <a:avLst>
              <a:gd name="adj" fmla="val 16667"/>
            </a:avLst>
          </a:prstGeom>
          <a:solidFill>
            <a:srgbClr val="084a8b"/>
          </a:solidFill>
          <a:ln w="25560">
            <a:solidFill>
              <a:srgbClr val="043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5f5f5"/>
                </a:solidFill>
                <a:latin typeface="Arial"/>
              </a:rPr>
              <a:t>Termín vyhlášení výzvy: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5f5f5"/>
                </a:solidFill>
                <a:latin typeface="Arial"/>
              </a:rPr>
              <a:t>září 2015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687" name="Diagram 6" descr=""/>
          <p:cNvPicPr/>
          <p:nvPr/>
        </p:nvPicPr>
        <p:blipFill>
          <a:blip r:embed="rId1"/>
          <a:stretch/>
        </p:blipFill>
        <p:spPr>
          <a:xfrm>
            <a:off x="438120" y="2273400"/>
            <a:ext cx="8199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afddfa"/>
                </a:solidFill>
                <a:latin typeface="Arial"/>
              </a:rPr>
              <a:t>PO4 EFEKTIVNÍ VEŘEJNÁ SPRÁVA</a:t>
            </a:r>
            <a:endParaRPr b="1" lang="en-US" sz="20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89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667F-4BFE-4ADD-92AC-6C4DBA6C3C0D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90" name="Zaoblený obdélník 7"/>
          <p:cNvSpPr/>
          <p:nvPr/>
        </p:nvSpPr>
        <p:spPr>
          <a:xfrm>
            <a:off x="250920" y="1268280"/>
            <a:ext cx="2952720" cy="719280"/>
          </a:xfrm>
          <a:prstGeom prst="roundRect">
            <a:avLst>
              <a:gd name="adj" fmla="val 16667"/>
            </a:avLst>
          </a:prstGeom>
          <a:solidFill>
            <a:srgbClr val="084a8b"/>
          </a:solidFill>
          <a:ln w="25560">
            <a:solidFill>
              <a:srgbClr val="043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5f5f5"/>
                </a:solidFill>
                <a:latin typeface="Arial"/>
              </a:rPr>
              <a:t>Termín vyhlášení výzvy: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5f5f5"/>
                </a:solidFill>
                <a:latin typeface="Arial"/>
              </a:rPr>
              <a:t>září 2015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691" name="Diagram 2" descr=""/>
          <p:cNvPicPr/>
          <p:nvPr/>
        </p:nvPicPr>
        <p:blipFill>
          <a:blip r:embed="rId1"/>
          <a:stretch/>
        </p:blipFill>
        <p:spPr>
          <a:xfrm>
            <a:off x="725400" y="2401920"/>
            <a:ext cx="80406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afddfa"/>
                </a:solidFill>
                <a:latin typeface="Arial"/>
              </a:rPr>
              <a:t>PO4 EFEKTIVNÍ VEŘEJNÁ SPRÁVA</a:t>
            </a:r>
            <a:endParaRPr b="1" lang="en-US" sz="20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93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2724-A428-4377-AE96-8AA18EDAEB9C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94" name="Zaoblený obdélník 7"/>
          <p:cNvSpPr/>
          <p:nvPr/>
        </p:nvSpPr>
        <p:spPr>
          <a:xfrm>
            <a:off x="250920" y="1268280"/>
            <a:ext cx="2952720" cy="719280"/>
          </a:xfrm>
          <a:prstGeom prst="roundRect">
            <a:avLst>
              <a:gd name="adj" fmla="val 16667"/>
            </a:avLst>
          </a:prstGeom>
          <a:solidFill>
            <a:srgbClr val="084a8b"/>
          </a:solidFill>
          <a:ln w="25560">
            <a:solidFill>
              <a:srgbClr val="043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5f5f5"/>
                </a:solidFill>
                <a:latin typeface="Arial"/>
              </a:rPr>
              <a:t>Podmínky pro realizaci projektů VS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695" name="Diagram 2" descr=""/>
          <p:cNvPicPr/>
          <p:nvPr/>
        </p:nvPicPr>
        <p:blipFill>
          <a:blip r:embed="rId1"/>
          <a:stretch/>
        </p:blipFill>
        <p:spPr>
          <a:xfrm>
            <a:off x="731880" y="2414520"/>
            <a:ext cx="805176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050920" y="2610000"/>
            <a:ext cx="6732720" cy="324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84a8b"/>
                </a:solidFill>
                <a:latin typeface="Arial"/>
              </a:rPr>
              <a:t>NASTAVENÍ PRAVIDEL PRO ŽADATELE A PŘÍJEMCE OPZ</a:t>
            </a:r>
            <a:br>
              <a:rPr sz="3200"/>
            </a:b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97" name="Zástupný symbol pro obrázek 1"/>
          <p:cNvSpPr/>
          <p:nvPr/>
        </p:nvSpPr>
        <p:spPr>
          <a:xfrm>
            <a:off x="900000" y="249228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698" name="Picture 5" descr="C:\Program Files\Microsoft Office\MEDIA\CAGCAT10\j0299171.wmf"/>
          <p:cNvPicPr/>
          <p:nvPr/>
        </p:nvPicPr>
        <p:blipFill>
          <a:blip r:embed="rId1"/>
          <a:stretch/>
        </p:blipFill>
        <p:spPr>
          <a:xfrm>
            <a:off x="569880" y="2565360"/>
            <a:ext cx="120024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PRAVIDLA PRO ŽADATELE A PŘÍJEMCE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9492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Obecná část pravidel 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(pro všechny) a k tomu dle charakteru projektu některá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specifická část 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pravidel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Obecná část pravidel: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 např. spolufinancování, monitorování včetně indikátorů, zadávání zakázek, veřejná podpora, povinnosti v oblasti informování a komunikace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Specifické části pravidel: 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např. změny projektu, způsobilé výdaje, finanční toky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Důvod: různé metody vykazování výdajů vyžadují odlišné nastavení způsobilosti a s tím souvisí i změny projektů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Na </a:t>
            </a:r>
            <a:r>
              <a:rPr b="0" lang="cs-CZ" sz="2000" spc="-1" strike="noStrike" u="sng">
                <a:solidFill>
                  <a:srgbClr val="084a8b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 k dispozici: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Obecná část pravidel pro žadatele a příjemce 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Specifická část pravidel pro žadatele a příjemce pro projekty se skutečně vzniklými výdaji a případně také s nepřímými náklady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Semináře, aktuality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01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D620-BFFA-459A-98C9-16C156D3D7F7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OPERAČNÍ PROGRAM ZAMĚSTNANOST</a:t>
            </a:r>
            <a:br>
              <a:rPr sz="3200"/>
            </a:b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2014 – 2020 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39640" y="1557000"/>
            <a:ext cx="8064720" cy="45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Operační program Zaměstnanost schválen 6.května 2015 jako třetí OP v ČR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Vyhlášení prvních výzev (uzavřených) červen 2015, otevřených od srpna 2015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Národní cíl Strategie Evropa 2020: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zvýšit míru zaměstnanosti na 75% v roce 2020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zachování stejného počtu osob ohrožených chudobou nebo sociálním vyloučením na úrovni roku 2008 s úsilím o snížení o 30.000 osob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39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B0CF-7FD0-4019-912B-F3CA4DB3255B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640" name="Picture 2" descr="C:\Program Files\Microsoft Office\MEDIA\CAGCAT10\j0302953.jpg"/>
          <p:cNvPicPr/>
          <p:nvPr/>
        </p:nvPicPr>
        <p:blipFill>
          <a:blip r:embed="rId1"/>
          <a:stretch/>
        </p:blipFill>
        <p:spPr>
          <a:xfrm>
            <a:off x="7236000" y="525600"/>
            <a:ext cx="7207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PLÁNOVÁNÍ VÝZEV OPZ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539640" y="1483920"/>
            <a:ext cx="806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V období 2014-2020 je kladen větší důraz na plánování výzev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Vůči žadatelům se to projeví pravidelnou aktualizací harmonogramu výzev připravovaných k vyhlášení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Harmonogram obsahuje také plánované zaměření a předpokládané oprávněné žadatele o podporu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Předstih zveřejnění výzvy minimálně 6 měsíců předem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2" marL="6652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Neplatí pro výzvy z roku 2015, kdy dochází k zahájení implementace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Harmonogram výzev je k dispozici na </a:t>
            </a:r>
            <a:r>
              <a:rPr b="0" lang="cs-CZ" sz="2000" spc="-1" strike="noStrike" u="sng">
                <a:solidFill>
                  <a:srgbClr val="084a8b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, prozatím je k dispozici tabulka s plánovanými výzvami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04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983F-2572-4DB3-BEF1-BD8418621397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TYPY VÝZEV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539640" y="1413000"/>
            <a:ext cx="8064720" cy="47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Výzvy uzavřené (projekty přímého přidělení) 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– projekty mohou realizovat pouze konkrétní subjekty, jejich výčet je vždy uveden ve výzvě. Min.výše podpory 10mil.Kč, max. není stanovena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Výzvy otevřené (projekty soutěžní)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 – žadatelé spolu soutěží o alokaci výzvy. Min. výše podpory 1mil.Kč, max.10mil. Projekty většinou na 2roky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Výzvy kolové 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– jedno kolo příjmu žádostí a po jeho proběhnutí je zavřena. Hodnotíte se všechny žádosti najednou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Výzvy průběžné 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– posouzení o žádosti o podporu probíhá průběžně. Přidělování podpory z alokace výzvy probíhá podle pořadí, v jakém žadatelé podali žádosti.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07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62CC-A6C6-45F1-9E05-007CF5E3E798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ELEKTRONIZACE – </a:t>
            </a:r>
            <a:br>
              <a:rPr sz="3200"/>
            </a:b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MS2014+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539640" y="1773000"/>
            <a:ext cx="8064720" cy="43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4a8b"/>
                </a:solidFill>
                <a:latin typeface="Arial"/>
              </a:rPr>
              <a:t>Implementace OPZ bude probíhat v monitorovacím systému MS2014+</a:t>
            </a: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Určen pro všechny operační programy financované z ESI fondů  v období 2014-2020 (výjimky pro oblast zemědělství a rybolovu)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Zajišťován Ministerstvem pro místní rozvoj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Pozitivní: Sjednocení terminologie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Odbourání listinné komunikace – žádost, přílohy, monitorovací zprávy, změny v projektech tzv. změnové řízení atd.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Musí být podepsáno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kvalifikovaným elektronickým podpisem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10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B2DB-C17F-49DF-A45E-CD1A7518D045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SPOLUFINANCOVÁNÍ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12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0FDF-24D7-436B-9D31-6BA6BAD74FCA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468360" y="1413000"/>
          <a:ext cx="8207280" cy="5040360"/>
        </p:xfrm>
        <a:graphic>
          <a:graphicData uri="http://schemas.openxmlformats.org/drawingml/2006/table">
            <a:tbl>
              <a:tblPr/>
              <a:tblGrid>
                <a:gridCol w="5040360"/>
                <a:gridCol w="3166920"/>
              </a:tblGrid>
              <a:tr h="37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5f5f5"/>
                          </a:solidFill>
                          <a:latin typeface="Arial"/>
                        </a:rPr>
                        <a:t>Typ příjemce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5f5f5"/>
                      </a:solidFill>
                    </a:lnL>
                    <a:lnR w="5760">
                      <a:solidFill>
                        <a:srgbClr val="f5f5f5"/>
                      </a:solidFill>
                    </a:lnR>
                    <a:lnT w="5760">
                      <a:solidFill>
                        <a:srgbClr val="f5f5f5"/>
                      </a:solidFill>
                    </a:lnT>
                    <a:lnB w="18720">
                      <a:solidFill>
                        <a:srgbClr val="f5f5f5"/>
                      </a:solidFill>
                    </a:lnB>
                    <a:solidFill>
                      <a:srgbClr val="5fb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5f5f5"/>
                          </a:solidFill>
                          <a:latin typeface="Arial"/>
                        </a:rPr>
                        <a:t>Zajištění národního podílu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5f5f5"/>
                      </a:solidFill>
                    </a:lnL>
                    <a:lnR w="5760">
                      <a:solidFill>
                        <a:srgbClr val="f5f5f5"/>
                      </a:solidFill>
                    </a:lnR>
                    <a:lnT w="5760">
                      <a:solidFill>
                        <a:srgbClr val="f5f5f5"/>
                      </a:solidFill>
                    </a:lnT>
                    <a:lnB w="18720">
                      <a:solidFill>
                        <a:srgbClr val="f5f5f5"/>
                      </a:solidFill>
                    </a:lnB>
                    <a:solidFill>
                      <a:srgbClr val="5fbbf5"/>
                    </a:solidFill>
                  </a:tcPr>
                </a:tc>
              </a:tr>
              <a:tr h="1217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rganizační složky státu a jejich příspěvkové organizace</a:t>
                      </a: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, státní vysoké školy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Sociální partneři, svazy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Nestátní neziskové organizace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5f5f5"/>
                      </a:solidFill>
                    </a:lnL>
                    <a:lnR w="5760">
                      <a:solidFill>
                        <a:srgbClr val="f5f5f5"/>
                      </a:solidFill>
                    </a:lnR>
                    <a:lnT w="18720">
                      <a:solidFill>
                        <a:srgbClr val="f5f5f5"/>
                      </a:solidFill>
                    </a:lnT>
                    <a:lnB w="5760">
                      <a:solidFill>
                        <a:srgbClr val="f5f5f5"/>
                      </a:solidFill>
                    </a:lnB>
                    <a:solidFill>
                      <a:srgbClr val="d2e7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Příjemce: 0 %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SR: celý národní podíl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5f5f5"/>
                      </a:solidFill>
                    </a:lnL>
                    <a:lnR w="5760">
                      <a:solidFill>
                        <a:srgbClr val="f5f5f5"/>
                      </a:solidFill>
                    </a:lnR>
                    <a:lnT w="18720">
                      <a:solidFill>
                        <a:srgbClr val="f5f5f5"/>
                      </a:solidFill>
                    </a:lnT>
                    <a:lnB w="5760">
                      <a:solidFill>
                        <a:srgbClr val="f5f5f5"/>
                      </a:solidFill>
                    </a:lnB>
                    <a:solidFill>
                      <a:srgbClr val="d2e7fb"/>
                    </a:solidFill>
                  </a:tcPr>
                </a:tc>
              </a:tr>
              <a:tr h="1498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Územní správní celky a jimi zřizované organizace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Veřejné vysoké školy 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Výzkumné organizace (dle zákona č. 130/2002 Sb.)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5f5f5"/>
                      </a:solidFill>
                    </a:lnL>
                    <a:lnR w="5760">
                      <a:solidFill>
                        <a:srgbClr val="f5f5f5"/>
                      </a:solidFill>
                    </a:lnR>
                    <a:lnT w="5760">
                      <a:solidFill>
                        <a:srgbClr val="f5f5f5"/>
                      </a:solidFill>
                    </a:lnT>
                    <a:lnB w="5760">
                      <a:solidFill>
                        <a:srgbClr val="f5f5f5"/>
                      </a:solidFill>
                    </a:lnB>
                    <a:solidFill>
                      <a:srgbClr val="eaf3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Příjemce: min. 5 %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SR: zbytek národního podílu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5f5f5"/>
                      </a:solidFill>
                    </a:lnL>
                    <a:lnR w="5760">
                      <a:solidFill>
                        <a:srgbClr val="f5f5f5"/>
                      </a:solidFill>
                    </a:lnR>
                    <a:lnT w="5760">
                      <a:solidFill>
                        <a:srgbClr val="f5f5f5"/>
                      </a:solidFill>
                    </a:lnT>
                    <a:lnB w="5760">
                      <a:solidFill>
                        <a:srgbClr val="f5f5f5"/>
                      </a:solidFill>
                    </a:lnB>
                    <a:solidFill>
                      <a:srgbClr val="eaf3fd"/>
                    </a:solidFill>
                  </a:tcPr>
                </a:tc>
              </a:tr>
              <a:tr h="93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Školy a školská zařízení (zapsané ve školském rejstříku)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5f5f5"/>
                      </a:solidFill>
                    </a:lnL>
                    <a:lnR w="5760">
                      <a:solidFill>
                        <a:srgbClr val="f5f5f5"/>
                      </a:solidFill>
                    </a:lnR>
                    <a:lnT w="5760">
                      <a:solidFill>
                        <a:srgbClr val="f5f5f5"/>
                      </a:solidFill>
                    </a:lnT>
                    <a:lnB w="5760">
                      <a:solidFill>
                        <a:srgbClr val="f5f5f5"/>
                      </a:solidFill>
                    </a:lnB>
                    <a:solidFill>
                      <a:srgbClr val="d2e7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Příjemce: min. 5 %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SR: zbytek národního podílu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(ale ŘO může snížit)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5f5f5"/>
                      </a:solidFill>
                    </a:lnL>
                    <a:lnR w="5760">
                      <a:solidFill>
                        <a:srgbClr val="f5f5f5"/>
                      </a:solidFill>
                    </a:lnR>
                    <a:lnT w="5760">
                      <a:solidFill>
                        <a:srgbClr val="f5f5f5"/>
                      </a:solidFill>
                    </a:lnT>
                    <a:lnB w="5760">
                      <a:solidFill>
                        <a:srgbClr val="f5f5f5"/>
                      </a:solidFill>
                    </a:lnB>
                    <a:solidFill>
                      <a:srgbClr val="d2e7fb"/>
                    </a:solidFill>
                  </a:tcPr>
                </a:tc>
              </a:tr>
              <a:tr h="1013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Obchodní společnosti, OSVČ, Družstva, Státní podniky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5f5f5"/>
                      </a:solidFill>
                    </a:lnL>
                    <a:lnR w="5760">
                      <a:solidFill>
                        <a:srgbClr val="f5f5f5"/>
                      </a:solidFill>
                    </a:lnR>
                    <a:lnT w="5760">
                      <a:solidFill>
                        <a:srgbClr val="f5f5f5"/>
                      </a:solidFill>
                    </a:lnT>
                    <a:lnB w="5760">
                      <a:solidFill>
                        <a:srgbClr val="f5f5f5"/>
                      </a:solidFill>
                    </a:lnB>
                    <a:solidFill>
                      <a:srgbClr val="eaf3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Příjemce: celý národní podíl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84a8b"/>
                          </a:solidFill>
                          <a:latin typeface="Arial"/>
                        </a:rPr>
                        <a:t>SR: 0%</a:t>
                      </a:r>
                      <a:endParaRPr b="0" lang="en-US" sz="1800" spc="-1" strike="noStrike">
                        <a:solidFill>
                          <a:srgbClr val="084a8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5f5f5"/>
                      </a:solidFill>
                    </a:lnL>
                    <a:lnR w="5760">
                      <a:solidFill>
                        <a:srgbClr val="f5f5f5"/>
                      </a:solidFill>
                    </a:lnR>
                    <a:lnT w="5760">
                      <a:solidFill>
                        <a:srgbClr val="f5f5f5"/>
                      </a:solidFill>
                    </a:lnT>
                    <a:lnB w="5760">
                      <a:solidFill>
                        <a:srgbClr val="f5f5f5"/>
                      </a:solidFill>
                    </a:lnB>
                    <a:solidFill>
                      <a:srgbClr val="eaf3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KŘÍŽOVÉ FINANCOVÁNÍ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94920" y="1341360"/>
            <a:ext cx="806436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66760" indent="-26676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266760" indent="-26676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podíl výdajů na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křížové financování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nesmí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 v rámci celkových způsobilých výdajů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za každou prioritní osu překročit 10 % 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(zodpovědnost za dodržení limitu má ŘO);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266760" indent="-26676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na úrovni projektu z pravidel OPZ žádný limit nevyplývá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 (resp. platí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omezení pro rozsah investičních výdajů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 v projektu ve výši max.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50 %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 způsobilých výdajů;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266760" indent="-26676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ŘO může ve výzvě k předkládání žádostí o podporu stanovit limit pro křížové financování v projektech v návaznosti na zaměření výzvy a také s ohledem na rozsah využití křížového financování v jiných podpořených či plánovaných projektech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16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1C66-BAD4-4BC5-B66A-536ABBCA73B2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KŘÍŽOVÉ FINANCOVÁNÍ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94920" y="1341360"/>
            <a:ext cx="84978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DŮLEŽITÉ: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křížové financování je v OPZ definováno odlišně od OP LZZ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algn="ctr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(došlo ke změně nařízení)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2" marL="812880" indent="-27000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OPZ: KF = infrastruktura (nákup, rekonstrukce); za infrastrukturu se považují budovy, stavby, pozemky a technická zařízení nezbytná pro fungování budov a staveb, s nemovitostmi pevně spojená (vodovod, kanalizace, energetické, komunikační vedení apod.)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2" marL="812880" indent="-27000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za infrastrukturu se nepovažují movité a samostatně pořizované věci využívané při realizaci projektů (vybavení, nábytek, učební pomůcky, přístroje sloužící k výuce nebo používané při výzkumu a vývoji apod.)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2" marL="812880" indent="-27000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ŘO může v textu výzvy omezit, za jakým účelem bude křížové financování využito 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61C2-8EAB-460F-8E58-E8CBFCDB3347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VYUŽITÍ JEDNOTKOVÝCH NÁKLADŮ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539640" y="1341360"/>
            <a:ext cx="80647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Jednotkové náklady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Jedna z metod zjednodušeného vykazování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Podpora se proplácí za dosažení předem stanoveného výstupu/výsledku,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neprokazují se jednotlivé výdaje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V OPZ se připravuje vyšší míra využívání jednotkových nákladů oproti OP LZZ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Pokročilá příprava systému podpory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zařízení péče o děti předškolního věku 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(vznik, transformace a provoz zařízení typu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dětské skupiny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Pokročilá příprava sytému podpory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dalšího profesního vzdělávání zaměstnanců ve firmách 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(podle zaměření daného vzdělávání vymezeno 6 základních skupin kurzů)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665280" indent="-25092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Ve fázi analýz je potenciální využití jednotkových nákladů na rekvalifikace a sociální služby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580B-4C84-42FB-984E-3C21D39B51C1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PRACOVNÍ ÚVAZEK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39528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14360" indent="-328680"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Pracovní úvazek - maximálně 1,0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414360" indent="-328680" algn="just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Pracovní úvazky zaměstnance se nesmí překrývat a není možné, aby byl placen za stejnou práci vícekrát.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lvl="1" marL="414360" indent="-32868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Clr>
                <a:srgbClr val="5fbbf5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Úvazek osoby, u které je odměňování i jen částečně hrazeno z prostředků projektu OPZ, může být </a:t>
            </a: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maximálně 1,0 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dohromady u všech subjektů (příjemce a partneři) zapojených  do  daného  projektu  (tj.  součet  veškerých  úvazků  zaměstnance u zaměstnavatele/ů včetně případných DPP a DPČ nesmí překročit jeden pracovní úvazek), a to po celou dobu zapojení daného pracovníka do realizace projektu OPZ.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algn="just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725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37AC-1A66-43F4-9076-898DD27A55F9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08000" y="2924280"/>
            <a:ext cx="5328000" cy="14414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84a8b"/>
                </a:solidFill>
                <a:latin typeface="Arial"/>
              </a:rPr>
              <a:t>DĚKUJI VÁM           ZA POZORNOST</a:t>
            </a:r>
            <a:br>
              <a:rPr sz="4000"/>
            </a:br>
            <a:br>
              <a:rPr sz="4000"/>
            </a:br>
            <a:r>
              <a:rPr b="1" lang="cs-CZ" sz="2500" spc="-1" strike="noStrike" u="sng">
                <a:solidFill>
                  <a:srgbClr val="084a8b"/>
                </a:solidFill>
                <a:uFillTx/>
                <a:latin typeface="Arial"/>
              </a:rPr>
              <a:t>blazena.krizova</a:t>
            </a:r>
            <a:r>
              <a:rPr b="1" lang="cs-CZ" sz="2500" spc="-1" strike="noStrike" u="sng">
                <a:solidFill>
                  <a:srgbClr val="084a8b"/>
                </a:solidFill>
                <a:uFillTx/>
                <a:latin typeface="Arial"/>
                <a:hlinkClick r:id="rId1"/>
              </a:rPr>
              <a:t>@mpsv.cz</a:t>
            </a:r>
            <a:br>
              <a:rPr sz="2500"/>
            </a:br>
            <a:r>
              <a:rPr b="1" lang="cs-CZ" sz="2500" spc="-1" strike="noStrike">
                <a:solidFill>
                  <a:srgbClr val="084a8b"/>
                </a:solidFill>
                <a:latin typeface="Arial"/>
              </a:rPr>
              <a:t>Odbor podpory projektů (86)</a:t>
            </a:r>
            <a:endParaRPr b="1" lang="en-US" sz="2500" spc="-1" strike="noStrike">
              <a:solidFill>
                <a:srgbClr val="afdd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OPZ – ALOKACE A VĚCNÉ ZAMĚŘENÍ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pic>
        <p:nvPicPr>
          <p:cNvPr id="642" name="Zástupný symbol pro obsah 7" descr=""/>
          <p:cNvPicPr/>
          <p:nvPr/>
        </p:nvPicPr>
        <p:blipFill>
          <a:blip r:embed="rId1"/>
          <a:stretch/>
        </p:blipFill>
        <p:spPr>
          <a:xfrm>
            <a:off x="463680" y="1189080"/>
            <a:ext cx="8143920" cy="5516640"/>
          </a:xfrm>
          <a:prstGeom prst="rect">
            <a:avLst/>
          </a:prstGeom>
          <a:ln w="0">
            <a:noFill/>
          </a:ln>
        </p:spPr>
      </p:pic>
      <p:sp>
        <p:nvSpPr>
          <p:cNvPr id="643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BB74-1807-491A-8C24-2D3B8DC5CCF3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UDRŽITELNÝ ROZVOJ V OPZ 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pic>
        <p:nvPicPr>
          <p:cNvPr id="645" name="Zástupný symbol pro obsah 2" descr=""/>
          <p:cNvPicPr/>
          <p:nvPr/>
        </p:nvPicPr>
        <p:blipFill>
          <a:blip r:embed="rId1"/>
          <a:stretch/>
        </p:blipFill>
        <p:spPr>
          <a:xfrm>
            <a:off x="480960" y="1298520"/>
            <a:ext cx="8266320" cy="4900680"/>
          </a:xfrm>
          <a:prstGeom prst="rect">
            <a:avLst/>
          </a:prstGeom>
          <a:ln w="0">
            <a:noFill/>
          </a:ln>
        </p:spPr>
      </p:pic>
      <p:sp>
        <p:nvSpPr>
          <p:cNvPr id="646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1811-4597-418D-88CB-DB9CB3B1DBD8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UDRŽITELNÝ ROZVOJ V OPZ 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48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2437-6E86-4F58-86E0-2E138BC8F876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539640" y="1800360"/>
            <a:ext cx="8064720" cy="4319280"/>
          </a:xfrm>
          <a:prstGeom prst="rect">
            <a:avLst/>
          </a:prstGeom>
          <a:ln w="0">
            <a:noFill/>
          </a:ln>
        </p:spPr>
      </p:pic>
      <p:grpSp>
        <p:nvGrpSpPr>
          <p:cNvPr id="650" name="Skupina 5"/>
          <p:cNvGrpSpPr/>
          <p:nvPr/>
        </p:nvGrpSpPr>
        <p:grpSpPr>
          <a:xfrm>
            <a:off x="1204920" y="2165400"/>
            <a:ext cx="6734160" cy="2527200"/>
            <a:chOff x="1204920" y="2165400"/>
            <a:chExt cx="6734160" cy="2527200"/>
          </a:xfrm>
        </p:grpSpPr>
        <p:sp>
          <p:nvSpPr>
            <p:cNvPr id="651" name="Zaoblený obdélník 6"/>
            <p:cNvSpPr/>
            <p:nvPr/>
          </p:nvSpPr>
          <p:spPr>
            <a:xfrm>
              <a:off x="1204920" y="2165400"/>
              <a:ext cx="6734160" cy="2527200"/>
            </a:xfrm>
            <a:prstGeom prst="roundRect">
              <a:avLst>
                <a:gd name="adj" fmla="val 16667"/>
              </a:avLst>
            </a:prstGeom>
            <a:solidFill>
              <a:srgbClr val="084a8b"/>
            </a:solidFill>
            <a:ln w="38160">
              <a:solidFill>
                <a:srgbClr val="f5f5f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4a8b"/>
                </a:solidFill>
                <a:latin typeface="Arial"/>
              </a:endParaRPr>
            </a:p>
          </p:txBody>
        </p:sp>
        <p:sp>
          <p:nvSpPr>
            <p:cNvPr id="652" name="Zaoblený obdélník 4"/>
            <p:cNvSpPr/>
            <p:nvPr/>
          </p:nvSpPr>
          <p:spPr>
            <a:xfrm>
              <a:off x="1328400" y="2288880"/>
              <a:ext cx="6486840" cy="22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cs-CZ" sz="1800" spc="-1" strike="noStrike">
                  <a:solidFill>
                    <a:srgbClr val="f5f5f5"/>
                  </a:solidFill>
                  <a:latin typeface="Arial"/>
                </a:rPr>
                <a:t>V rámci monitorování budou sbírána mj. data o případném příspěvku intervencí OPZ k udržitelnému rozvoji tak, aby bylo možné podporu vykazovat a v rámci evaluací vyhodnocovat. </a:t>
              </a:r>
              <a:br>
                <a:rPr sz="1800"/>
              </a:br>
              <a:br>
                <a:rPr sz="1800"/>
              </a:br>
              <a:r>
                <a:rPr b="0" lang="cs-CZ" sz="1800" spc="-1" strike="noStrike">
                  <a:solidFill>
                    <a:srgbClr val="f5f5f5"/>
                  </a:solidFill>
                  <a:latin typeface="Arial"/>
                </a:rPr>
                <a:t>Případná doporučení vzešlá z evaluací k problematice udržitelného rozvoje pak budou zohledněna při nastavování parametrů výzev a podmínek pro realizaci projektů a pro případné úpravy aplikace horizontálního tématu udržitelný rozvoj v průběhu realizace operačního programu.</a:t>
              </a:r>
              <a:endParaRPr b="0" lang="en-US" sz="1800" spc="-1" strike="noStrike">
                <a:solidFill>
                  <a:srgbClr val="084a8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UDRŽITELNÝ ROZVOJ V OPZ 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54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371F-24FA-4D0F-ACC3-5C788EC075F5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14360" indent="-41436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84a8b"/>
                </a:solidFill>
                <a:latin typeface="Arial"/>
              </a:rPr>
              <a:t>Sociální pilíř je nedílnou složkou procesu rozvoje území na všech úrovních – je součástí územní dimenze. Proto  se objevuje v tzv. integrovaných nástrojích ITI,(integrované územní investice, IPRÚ</a:t>
            </a:r>
            <a:r>
              <a:rPr b="1" lang="cs-CZ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84a8b"/>
                </a:solidFill>
                <a:latin typeface="Arial"/>
              </a:rPr>
              <a:t>Integrované plány rozvoje území,CLLD Komunitně vedený místní rozvoj</a:t>
            </a:r>
            <a:r>
              <a:rPr b="0" lang="cs-CZ" sz="1800" spc="-1" strike="noStrike">
                <a:solidFill>
                  <a:srgbClr val="084a8b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  <a:p>
            <a:pPr marL="414360" indent="-41436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84a8b"/>
                </a:solidFill>
                <a:latin typeface="Arial"/>
              </a:rPr>
              <a:t>Obsah sociálního pilíře: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  <a:p>
            <a:pPr marL="414360" indent="-41436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4a8b"/>
                </a:solidFill>
                <a:latin typeface="Arial"/>
              </a:rPr>
              <a:t>Demografická struktura a vývoj, zdravotní stav, 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  <a:p>
            <a:pPr marL="414360" indent="-41436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4a8b"/>
                </a:solidFill>
                <a:latin typeface="Arial"/>
              </a:rPr>
              <a:t>Vzdělanostní struktura, kvalita vzdělávání, celoživotní učení 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  <a:p>
            <a:pPr marL="414360" indent="-41436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4a8b"/>
                </a:solidFill>
                <a:latin typeface="Arial"/>
              </a:rPr>
              <a:t>Sociální prostředí, úroveň a dostupnost sociálního zabezpečení, sociální péče a zdravotnictví, kriminalita, exkluze různých skupin obyvatelstva</a:t>
            </a: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  <a:p>
            <a:pPr marL="414360" indent="-41436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56" name="Zaoblený obdélník 4"/>
          <p:cNvSpPr/>
          <p:nvPr/>
        </p:nvSpPr>
        <p:spPr>
          <a:xfrm>
            <a:off x="1187280" y="2060640"/>
            <a:ext cx="648684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UDRŽITELNÝ ROZVOJ V OPZ 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539640" y="1800360"/>
            <a:ext cx="806472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Zaměstnanost, nezaměstnanost, neaktivní občané, zdravotně postižení, trh práce, mobilita pracovní síly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Rovné příležitosti – ženy/muži, menšiny,vyznání, hendikepovaní aj.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Životní úroveň,  sladění rodinného a pracovního života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Kvalita a dostupnost bydlení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84a8b"/>
                </a:solidFill>
                <a:latin typeface="Arial"/>
              </a:rPr>
              <a:t>Občanská společnost, dostupnost veřejných služeb, komunitní aktivity, spolupráce veřejného, soukromého a neziskového sektoru 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Kompetence MPSV – OPZ nabízí řešení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  <a:p>
            <a:pPr marL="431640" indent="-431640">
              <a:lnSpc>
                <a:spcPts val="2874"/>
              </a:lnSpc>
              <a:spcBef>
                <a:spcPts val="601"/>
              </a:spcBef>
              <a:spcAft>
                <a:spcPts val="601"/>
              </a:spcAft>
              <a:buClr>
                <a:srgbClr val="5fbbf5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84a8b"/>
                </a:solidFill>
                <a:latin typeface="Arial"/>
              </a:rPr>
              <a:t>MMR - IROP komplementarita </a:t>
            </a:r>
            <a:endParaRPr b="0" lang="en-US" sz="2000" spc="-1" strike="noStrike">
              <a:solidFill>
                <a:srgbClr val="084a8b"/>
              </a:solidFill>
              <a:latin typeface="Arial"/>
            </a:endParaRPr>
          </a:p>
        </p:txBody>
      </p:sp>
      <p:sp>
        <p:nvSpPr>
          <p:cNvPr id="659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7E9E-4ECF-4FBA-B61F-9D7C360A1548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PO1 PODPORA ZAMĚSTNANOSTI </a:t>
            </a:r>
            <a:br>
              <a:rPr sz="3200"/>
            </a:b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A ADAPTABILITY PRACOVNÍ SÍLY 1/2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pic>
        <p:nvPicPr>
          <p:cNvPr id="661" name="Zástupný symbol pro obsah 5" descr=""/>
          <p:cNvPicPr/>
          <p:nvPr/>
        </p:nvPicPr>
        <p:blipFill>
          <a:blip r:embed="rId1"/>
          <a:stretch/>
        </p:blipFill>
        <p:spPr>
          <a:xfrm>
            <a:off x="536400" y="1249200"/>
            <a:ext cx="8217000" cy="5212080"/>
          </a:xfrm>
          <a:prstGeom prst="rect">
            <a:avLst/>
          </a:prstGeom>
          <a:ln w="0">
            <a:noFill/>
          </a:ln>
        </p:spPr>
      </p:pic>
      <p:sp>
        <p:nvSpPr>
          <p:cNvPr id="662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E5BB-5E52-407B-BCE0-1532FDEA8484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42328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PO1 PODPORA ZAMĚSTNANOSTI </a:t>
            </a:r>
            <a:br>
              <a:rPr sz="3200"/>
            </a:br>
            <a:r>
              <a:rPr b="1" lang="cs-CZ" sz="3200" spc="-1" strike="noStrike">
                <a:solidFill>
                  <a:srgbClr val="afddfa"/>
                </a:solidFill>
                <a:latin typeface="Arial"/>
              </a:rPr>
              <a:t>A ADAPTABILITY PRACOVNÍ SÍLY 2/2</a:t>
            </a:r>
            <a:endParaRPr b="1" lang="en-US" sz="3200" spc="-1" strike="noStrike">
              <a:solidFill>
                <a:srgbClr val="afddfa"/>
              </a:solidFill>
              <a:latin typeface="Arial"/>
            </a:endParaRPr>
          </a:p>
        </p:txBody>
      </p:sp>
      <p:pic>
        <p:nvPicPr>
          <p:cNvPr id="664" name="Zástupný symbol pro obsah 4" descr=""/>
          <p:cNvPicPr/>
          <p:nvPr/>
        </p:nvPicPr>
        <p:blipFill>
          <a:blip r:embed="rId1"/>
          <a:stretch/>
        </p:blipFill>
        <p:spPr>
          <a:xfrm>
            <a:off x="536400" y="1407960"/>
            <a:ext cx="8071200" cy="5053320"/>
          </a:xfrm>
          <a:prstGeom prst="rect">
            <a:avLst/>
          </a:prstGeom>
          <a:ln w="0">
            <a:noFill/>
          </a:ln>
        </p:spPr>
      </p:pic>
      <p:sp>
        <p:nvSpPr>
          <p:cNvPr id="665" name="Zástupný symbol pro číslo snímku 3"/>
          <p:cNvSpPr/>
          <p:nvPr/>
        </p:nvSpPr>
        <p:spPr>
          <a:xfrm>
            <a:off x="8640720" y="6516720"/>
            <a:ext cx="46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F1F4-E927-4DDD-88C5-8A4010087C14}" type="slidenum">
              <a:rPr b="1" lang="cs-CZ" sz="1000" spc="-1" strike="noStrike">
                <a:solidFill>
                  <a:srgbClr val="084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4a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0T08:23:15Z</dcterms:created>
  <dc:creator>Zahradníková Petra Mgr. MBA (MPSV)</dc:creator>
  <dc:description/>
  <dc:language>en-US</dc:language>
  <cp:lastModifiedBy>Blazenka</cp:lastModifiedBy>
  <cp:lastPrinted>2015-06-11T07:01:35Z</cp:lastPrinted>
  <dcterms:modified xsi:type="dcterms:W3CDTF">2015-07-09T20:01:33Z</dcterms:modified>
  <cp:revision>126</cp:revision>
  <dc:subject/>
  <dc:title>Prezentace aplikace PowerPoint</dc:title>
</cp:coreProperties>
</file>